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71892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407340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902304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2955600" y="9045720"/>
            <a:ext cx="127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7520" bIns="475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2371CA2-85BB-4C7D-93FB-795F9345C4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58320" y="4509720"/>
            <a:ext cx="5270760" cy="427500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400" bIns="504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or describes exerc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escribe, in writing, their view of software development their orga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volunteers are asked to read their vie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engages in short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nstructor facilitates the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instructor observes and records the class attitude, experience, and plans concerning software development at the orga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written comments are collected and saved for conclusion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ldImg"/>
          </p:nvPr>
        </p:nvSpPr>
        <p:spPr>
          <a:xfrm>
            <a:off x="1228680" y="719280"/>
            <a:ext cx="4730760" cy="35478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49D700CD-1046-4F6D-9E95-D9EA50581CB6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3F3F2133-E2C5-431A-8CE2-4EB2AA55674E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Lectures/v3.2%20(6)%20Design%20and%20code%20reviews.ppt" TargetMode="External"/><Relationship Id="rId2" Type="http://schemas.openxmlformats.org/officeDocument/2006/relationships/hyperlink" Target="file:///../Lectures/v3.2%20(7)%20Software%20quality.ppt" TargetMode="External"/><Relationship Id="rId3" Type="http://schemas.openxmlformats.org/officeDocument/2006/relationships/hyperlink" Target="file:///../Tutorials/v3.2%20Design%20and%20code%20reviews.ppt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Tutorials/v3.2.1%20PSP2.ppt" TargetMode="External"/><Relationship Id="rId2" Type="http://schemas.openxmlformats.org/officeDocument/2006/relationships/hyperlink" Target="file:///../Tutorials/v3.2PSP20EX.doc" TargetMode="External"/><Relationship Id="rId3" Type="http://schemas.openxmlformats.org/officeDocument/2006/relationships/hyperlink" Target="file:///../Tutorials/v3.2.1PSP20EXans.doc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50480" y="926640"/>
            <a:ext cx="80931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I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Overview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structor Availabilit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ructors will be avail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class hours each d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class by phone or e-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83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pecta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39880" y="1450800"/>
            <a:ext cx="77486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ents learn the PSP 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ing the assigned rea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ending the class lectures, tutorials, and worksho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ing the assign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plan to spend two weeks of classroom time and up to an additional week outside the class to complete the cour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student is expected to be able and willing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this commit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902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Ground Rules for Clas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07840" y="1447560"/>
            <a:ext cx="7785000" cy="4143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401760" indent="-4017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here on time; we will start on time each d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end all sessions; discuss any exceptions with instructo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this room a “quiet zone” during lab periods; move conversations outs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use the PSP techniques and methods on the assignments. Your goal is to learn the process, not to write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s must be correct, complete, and in the proper ord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Agenda - Day 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3152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ental breakf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rse overvie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Design and code review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Software qu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Design and code review checkli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500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Agenda - Day 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4412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ental breakf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1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data feedba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Using PSP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PSP2 exer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PSP2 exercise answ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7A worksh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 (continu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Agenda - Day 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3152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ental Breakf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PSP2.1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8A worksh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 (continu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Agenda - Day 4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4412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ental breakf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1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data feedba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Verif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9A worksho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 (continu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Agenda - Day 5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3152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ental breakf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1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data feedba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ling up to and using the TS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0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10A workshop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 (continu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mework Assig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R5 worksh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:4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rse Feedback and Evalu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6692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8408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ost-Course Homework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96760" y="1739880"/>
            <a:ext cx="756000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scrip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regr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l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Aft>
                <a:spcPts val="624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ost-Course Schedu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96760" y="1739520"/>
            <a:ext cx="7560000" cy="27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st. Effor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-10 hou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-20 hou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24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6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83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troduc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33040" y="1449360"/>
            <a:ext cx="8007480" cy="47102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1840" bIns="51840" anchor="t">
            <a:normAutofit/>
          </a:bodyPr>
          <a:p>
            <a:pPr marL="228600" indent="-228600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ructor introd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rse logistics and building fac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ent introd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me and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rse expec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guage you will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ercis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“Question/Comment” sheet to describe your view of software development issues and problems in your organiz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 finish your responses, we will have a class discussion about software development in your organiz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028"/>
          <p:cNvSpPr/>
          <p:nvPr/>
        </p:nvSpPr>
        <p:spPr>
          <a:xfrm>
            <a:off x="4360320" y="5884920"/>
            <a:ext cx="20966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10 minutes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63" name="Picture 1029" descr=""/>
          <p:cNvPicPr/>
          <p:nvPr/>
        </p:nvPicPr>
        <p:blipFill>
          <a:blip r:embed="rId1"/>
          <a:stretch/>
        </p:blipFill>
        <p:spPr>
          <a:xfrm>
            <a:off x="3554280" y="5597640"/>
            <a:ext cx="64944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Course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725040" y="1450800"/>
            <a:ext cx="7977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062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is a software process course.  The objectives are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0720" indent="-222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e you to a process-based approach to developing softw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0720" indent="-222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w you how to measure and analyze your personal software process (PS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0720" indent="-222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w you how to use process data to improve your personal performa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0720" indent="-2221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w you how to apply these methods to other structured tas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General Course Informa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know a programming languag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have completed the pre-read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lpful backgrou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miliarity with basic statist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ility to read simple formal no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c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ailable development environmen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Word and Excel capa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03160" y="4204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Topic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26560" y="1450440"/>
            <a:ext cx="3792600" cy="37609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 Part I: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personal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measur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xy-based estim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measur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70600" y="1447920"/>
            <a:ext cx="3703680" cy="4208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 Part II: Qu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sign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verif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ling up to T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 and T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Structur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0784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-course reading assig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ical course d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cture:  review key topics from textbo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tuto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worksh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course home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tudent Evalua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actors that affect your evaluation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quality of the data that you subm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 and self-consistent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erly ordered and formatted assign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analysis of your P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10-07T16:15:32Z</cp:lastPrinted>
  <dcterms:modified xsi:type="dcterms:W3CDTF">2018-09-06T00:16:51Z</dcterms:modified>
  <cp:revision>83</cp:revision>
  <dc:subject/>
  <dc:title>No Slide Title</dc:title>
</cp:coreProperties>
</file>